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ADF6-4197-482A-8776-5485AB8F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788D-3651-4F53-B059-C41EB353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2603-32A5-48C3-8FFF-ECD9B24F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BB9B-6982-43D3-AE3A-0C37B52C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80F7-5ABF-45C2-AA3E-F850D8E5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2BF5-6278-4448-83BA-7AAA5501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A88D-243D-48BC-BF38-0E1FBEC4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BAFB-B512-4925-9247-B10A4BF8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9638-1CF2-43D2-8987-EA7D3B9F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8C59-9DD0-43E7-BC4E-2D5F7E82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221D-4BFE-4832-A5A3-C39EAF01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500D-931F-4CA2-AEE9-C8E59D2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496B-091A-4528-8F75-FD47BB834B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660C-A601-42A8-9EC3-753CEA8DE87F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9160" y="-254160"/>
            <a:ext cx="8501040" cy="636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fr-FR" sz="6600" spc="-1" strike="noStrike">
                <a:solidFill>
                  <a:srgbClr val="675e47"/>
                </a:solidFill>
                <a:latin typeface="Cambria"/>
              </a:rPr>
              <a:t>  </a:t>
            </a:r>
            <a:r>
              <a:rPr b="1" lang="fr-FR" sz="5400" spc="-1" strike="noStrike">
                <a:solidFill>
                  <a:srgbClr val="675e47"/>
                </a:solidFill>
                <a:latin typeface="Cambria"/>
              </a:rPr>
              <a:t>Droit du travail </a:t>
            </a:r>
            <a:br>
              <a:rPr sz="6600"/>
            </a:br>
            <a:r>
              <a:rPr b="0" lang="fr-FR" sz="6600" spc="-1" strike="noStrike">
                <a:solidFill>
                  <a:srgbClr val="675e47"/>
                </a:solidFill>
                <a:latin typeface="Cambria"/>
              </a:rPr>
              <a:t>    </a:t>
            </a:r>
            <a:r>
              <a:rPr b="1" lang="fr-FR" sz="3200" spc="-1" strike="noStrike">
                <a:solidFill>
                  <a:srgbClr val="675e47"/>
                </a:solidFill>
                <a:latin typeface="Cambria"/>
              </a:rPr>
              <a:t>Pr.  Kamal LAGTATI</a:t>
            </a:r>
            <a:br>
              <a:rPr sz="66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4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252080"/>
            <a:ext cx="8520120" cy="56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6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2"/>
          <p:cNvSpPr/>
          <p:nvPr/>
        </p:nvSpPr>
        <p:spPr>
          <a:xfrm>
            <a:off x="0" y="14558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55520" y="1455840"/>
            <a:ext cx="8364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G- Protection de salai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Pourquoi protéger le salaire ?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Au cours de l’exécution du travail le salaire peut se trouver menacé par certains dangers.  Ces dangers  peuvent provenir soit 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1-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de la part des créanciers de l’employeur lorsque le passif de ce dernier excède l’actif, le salarié se trouve alors menacé de ne pouvoir recouvrer l’intégralité de la rémunératio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2-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de la part des créanciers du salarié lui-même qui pour se faire rembourser l’intégralité de leurs créances, pourraient empêcher le versement  du salaire entre les mains du travailleur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a menace peut  avoir pour origine l’employeur lui même  qui utilise la compensation lorsqu’il est créancier de son employé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a- protection à l’encontre des créanciers de l’employeur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e super privilège général 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elon </a:t>
            </a: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’article 382 du code de travail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les salariés bénéficient, pour le paiement des salaires et indemnités dus par l’employeur du privilège de premier rang (super privilège) institué sur la généralité des meubles de l’employeur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252080"/>
            <a:ext cx="8520120" cy="56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0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2"/>
          <p:cNvSpPr/>
          <p:nvPr/>
        </p:nvSpPr>
        <p:spPr>
          <a:xfrm>
            <a:off x="0" y="14558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b- protection à l’encontre des  créanciers du salarié : saisie arrêt et  cession de salair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C’est  la protection du travailleur contre lui-même afin de ne pas permettre à ses créanciers de saisir entre les mains de son employeur la totalité, ou presque, de son salaire.  En effet la saisie de la quasi-totalité de la rémunération risque de priver le salaire de son caractère alimentair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La quotité saisissable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a rémunération à prendre en considération comprend le salaire proprement dit et les accessoires en nature et en espèces, dont il faut déduire :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indemnités et rentes déclarées insaisissables par la loi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sommes alloués au titre de remboursement de frais ou de dépenses subis par le salarié en raison de de son travail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primes à la naissanc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’indemnité de logement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allocations familiales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les indemnités et primes pour certaines occasions comme les fêtes religieuses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39400"/>
            <a:ext cx="8520120" cy="56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3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2"/>
          <p:cNvSpPr/>
          <p:nvPr/>
        </p:nvSpPr>
        <p:spPr>
          <a:xfrm>
            <a:off x="0" y="14558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320840"/>
            <a:ext cx="85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33660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Le barème de calcul de la quotité saisissab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’article 387 du code de travail dispose : les salaires sont saisissables à condition que le montant retenu ne dépasse pas pour le salaire annuel les taux suivants :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e vingtième (1/20)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ur la portion inférieure ou égale à quatre fois le salaire minimum légal 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e dixième (1/10)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ur la portion supérieure à quatre fois le salaire minimum légal et inférieur ou égal à 8 fois le salaire minimum légal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- 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e cinquième (1/5)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ur la portion supérieure à huit fois le salaire minimum légal et inférieure ou égale à douze fois le salaire minimum légal. 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le quart (1/4)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ur la portion supérieure à douze fois le salaire minimum légal et inférieur ou égale à seize fois le salaire minimum légal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-  </a:t>
            </a:r>
            <a:r>
              <a:rPr b="1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sans limitation</a:t>
            </a: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 s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ur la portion du salaire annuel supérieure à vingt fois le salaire minimum légal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252080"/>
            <a:ext cx="8520120" cy="560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Image 3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4558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"/>
          <p:cNvSpPr/>
          <p:nvPr/>
        </p:nvSpPr>
        <p:spPr>
          <a:xfrm>
            <a:off x="0" y="14558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1320840"/>
            <a:ext cx="85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-79200"/>
            <a:ext cx="85201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f2b20"/>
                </a:solidFill>
                <a:latin typeface="Calibri"/>
              </a:rPr>
              <a:t>Chapitre 3 La durée de travail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+Dans le secteur non agricole : la durée légale du travail est de </a:t>
            </a: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44 h par semaine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, soit </a:t>
            </a: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2288 h par an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+Dans le secteur agricole : la durée légale est de </a:t>
            </a: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2496 h par an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Durée de travail : correspond au temps de présence dans l’entreprise pendant lequel le salarié est soumis au lien de subordination le maintenant à la disposition de l’employeu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Répartition du temps de travail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Le principe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a répartition du temps de travail est libre mais doit respecter les conditions suivantes 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e pas dépasser 10 h par jour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e pas dépasser 44 h par semain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Respecter le repos hebdomadair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Le temps de travail fait l’objet 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oit d’une répartition égale de 8h par jour ouvrab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soit d’une répartition inégale de 44 h par semaine soit  6j/Sem (max 9h/j) soit 5j/Sem (max 10h/j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4T21:16:31Z</dcterms:created>
  <dc:creator>user</dc:creator>
  <dc:description/>
  <dc:language>en-US</dc:language>
  <cp:lastModifiedBy>user</cp:lastModifiedBy>
  <dcterms:modified xsi:type="dcterms:W3CDTF">2020-03-20T14:32:47Z</dcterms:modified>
  <cp:revision>16</cp:revision>
  <dc:subject/>
  <dc:title>    Droit de la famille    Pr.  Kamal LAGTATI </dc:title>
</cp:coreProperties>
</file>